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BF17-0B11-4A08-B9C3-4AFCEBB0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558-5DCB-49E8-BCFF-803A70C5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1100-CE11-43A3-AA35-748136F4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C5D-C510-45E8-AA44-A012F64D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388-1A46-42C7-8F1B-D8123F3F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177-CD84-4018-BB0F-4AA1FB08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9BC-B039-4169-AC9C-CE5409EE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DBA5-D456-4FF1-B5AA-B7946134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337-A270-4F6B-BD35-22C36328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23EE-7522-4C8A-9EB0-3CD0C5AC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D4C-5CAD-4E8D-BE78-14492E89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CF5-B115-4ED9-8841-01575431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B6C-84D3-4978-8CA5-F9AC572F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B74-8C6D-4BEF-A9FF-D1A16BF7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812-94DB-454C-85A6-11F616A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070-3F15-428C-B1B3-675D053F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006-7D58-4C98-AB92-AF1CABEE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6C3-0D1D-4899-AA7F-BDAFDCEE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86C-5539-4421-860A-7ACE056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B03-FE32-4672-A681-6579CB8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DB2-EBA8-44BD-BEB5-B667678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53E-69B2-4170-B8DF-CB09B745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utura 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390C-E2E8-4815-8598-5EB252A28021}" type="slidenum">
              <a:rPr b="0" lang="en-US" sz="1200" spc="-1" strike="noStrike">
                <a:solidFill>
                  <a:srgbClr val="898989"/>
                </a:solidFill>
                <a:latin typeface="Futura 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Stephen\AppData\Local\Microsoft\Windows\Temporary Internet Files\Content.IE5\PZBLJGWS\MPj04278100000[1].jpg"/>
          <p:cNvPicPr/>
          <p:nvPr/>
        </p:nvPicPr>
        <p:blipFill>
          <a:blip r:embed="rId1"/>
          <a:stretch/>
        </p:blipFill>
        <p:spPr>
          <a:xfrm>
            <a:off x="-42840" y="23760"/>
            <a:ext cx="9193320" cy="684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Georgia"/>
              </a:rPr>
              <a:t>Education in the United Stat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rint MT Shadow"/>
                <a:ea typeface="Times New Roman"/>
              </a:rPr>
              <a:t>A Brief History of Influential Events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d0d0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Georgia"/>
              </a:rPr>
              <a:t>US Educational Timeli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447920" y="1447920"/>
            <a:ext cx="609588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olonial Ame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rmal education reserved for e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pprenticeships used to edu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ower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85800" y="4462560"/>
            <a:ext cx="7620120" cy="247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Early 1800’s – Industrial Rev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Growing market for skilled workers &amp;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Vocational vs. Academic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0"/>
          <p:cNvSpPr/>
          <p:nvPr/>
        </p:nvSpPr>
        <p:spPr>
          <a:xfrm>
            <a:off x="4343400" y="3429000"/>
            <a:ext cx="304920" cy="9144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1"/>
          <p:cNvSpPr/>
          <p:nvPr/>
        </p:nvSpPr>
        <p:spPr>
          <a:xfrm>
            <a:off x="4343400" y="60199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09480" y="1447920"/>
            <a:ext cx="7848720" cy="204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d-1800’s – Agricultural Rev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Need for more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and Grant” higher education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85800" y="4038480"/>
            <a:ext cx="762012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840 Cens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55% of boys and girls ages 5-15 at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rmal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chools largely unorganized &amp;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10"/>
          <p:cNvSpPr/>
          <p:nvPr/>
        </p:nvSpPr>
        <p:spPr>
          <a:xfrm>
            <a:off x="4343400" y="3048120"/>
            <a:ext cx="304920" cy="9144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1"/>
          <p:cNvSpPr/>
          <p:nvPr/>
        </p:nvSpPr>
        <p:spPr>
          <a:xfrm>
            <a:off x="4343400" y="6095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457200" y="1447920"/>
            <a:ext cx="8153280" cy="247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Mid-1800’s - Purpose of School Deb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omote &amp; preserve democratic value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eserve America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epare a stronger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85800" y="4191120"/>
            <a:ext cx="762012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892 – Committee of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avored traditional academic stud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ursuit of knowledge and training of inte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tart traditional subjects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10"/>
          <p:cNvSpPr/>
          <p:nvPr/>
        </p:nvSpPr>
        <p:spPr>
          <a:xfrm>
            <a:off x="4343400" y="342900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1"/>
          <p:cNvSpPr/>
          <p:nvPr/>
        </p:nvSpPr>
        <p:spPr>
          <a:xfrm>
            <a:off x="4343400" y="61722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85800" y="1447920"/>
            <a:ext cx="73915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10:  72% of children attended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85800" y="4816440"/>
            <a:ext cx="74674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25:  Supreme court ruled private schools could meet compulsory attend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own Arrow 10"/>
          <p:cNvSpPr/>
          <p:nvPr/>
        </p:nvSpPr>
        <p:spPr>
          <a:xfrm>
            <a:off x="4343400" y="21337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wn Arrow 11"/>
          <p:cNvSpPr/>
          <p:nvPr/>
        </p:nvSpPr>
        <p:spPr>
          <a:xfrm>
            <a:off x="4343400" y="5867280"/>
            <a:ext cx="304920" cy="8384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85800" y="2895480"/>
            <a:ext cx="74674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1918:  Every state required completion of element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wn Arrow 12"/>
          <p:cNvSpPr/>
          <p:nvPr/>
        </p:nvSpPr>
        <p:spPr>
          <a:xfrm>
            <a:off x="4343400" y="39625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914400" y="3809880"/>
            <a:ext cx="739152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57 - Russia Launches Sputni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US Children declared “defici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Large reforms in science, math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engineering education be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838080" y="1447920"/>
            <a:ext cx="7467840" cy="192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54 - Brown vs. BOE Tope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Declared separate was “inherently uneq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aved the way for racial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11"/>
          <p:cNvSpPr/>
          <p:nvPr/>
        </p:nvSpPr>
        <p:spPr>
          <a:xfrm>
            <a:off x="4343400" y="58672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n Arrow 12"/>
          <p:cNvSpPr/>
          <p:nvPr/>
        </p:nvSpPr>
        <p:spPr>
          <a:xfrm>
            <a:off x="4343400" y="30481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09480" y="3809880"/>
            <a:ext cx="8077320" cy="204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75 – Education for All Handicapped Children Act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ior to this only 1/5 children with dis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ttended school (about 1 million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38080" y="1447920"/>
            <a:ext cx="7467840" cy="149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72 – Title IX Pa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Ended discrimination on the basis of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reated more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1"/>
          <p:cNvSpPr/>
          <p:nvPr/>
        </p:nvSpPr>
        <p:spPr>
          <a:xfrm>
            <a:off x="4343400" y="594360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2"/>
          <p:cNvSpPr/>
          <p:nvPr/>
        </p:nvSpPr>
        <p:spPr>
          <a:xfrm>
            <a:off x="4343400" y="304812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762120" y="3809880"/>
            <a:ext cx="7696080" cy="234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2001 – No Child Left Behind P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Most comprehensive federal role in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tandards-based”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838080" y="1447920"/>
            <a:ext cx="7467840" cy="149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1990 – EHA Revised into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dividuals with Disabilities in Educ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11"/>
          <p:cNvSpPr/>
          <p:nvPr/>
        </p:nvSpPr>
        <p:spPr>
          <a:xfrm>
            <a:off x="4343400" y="58672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12"/>
          <p:cNvSpPr/>
          <p:nvPr/>
        </p:nvSpPr>
        <p:spPr>
          <a:xfrm>
            <a:off x="4343400" y="2666880"/>
            <a:ext cx="304920" cy="6858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:\Users\Stephen\AppData\Local\Microsoft\Windows\Temporary Internet Files\Content.IE5\PZBLJGWS\MPj04278100000[1]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Rectangle 4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2f2f2">
              <a:alpha val="7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838080" y="1447920"/>
            <a:ext cx="7467840" cy="2775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2004 – IDEA Revised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ndividuals with Disabilities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Improvemen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Revised to align with NC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About 6 million children in US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rvices under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8:33:40Z</dcterms:created>
  <dc:creator>Carlile, Crista (CURR)</dc:creator>
  <dc:description>Futura BK font, 24pt.
Garamond, 44 pt. Headings</dc:description>
  <cp:keywords>Education instruction school students teachers</cp:keywords>
  <dc:language>en-US</dc:language>
  <cp:lastModifiedBy>Carlile, Crista (CURR)</cp:lastModifiedBy>
  <dcterms:modified xsi:type="dcterms:W3CDTF">2009-08-27T19:19:53Z</dcterms:modified>
  <cp:revision>20</cp:revision>
  <dc:subject>Education instruction school students teachers</dc:subject>
  <dc:title>Education in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2451033</vt:lpwstr>
  </property>
</Properties>
</file>